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BBE-1EC7-4981-A68B-01EC481E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9B6-65D0-45FB-A2D6-3785B96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C8A-5D1F-4881-82FC-93BDE8F1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A2E-F29A-4B9B-910A-6855178E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06B-F91B-4210-9700-78754F13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9AE-EFF3-4082-86B8-831AF70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DBE-4F26-423A-9591-46A1D25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488-CE3D-409E-9AB2-C458B2F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D52-AAFA-4EAE-A887-A580099A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75A-F565-4DB5-A84E-36FC4D1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62E-BB79-4141-AA92-982221F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563-BD17-48CE-888D-5E04668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EE4-E88F-4648-96C6-32FC1D89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ensor Etiqu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eat them like a lady should be t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When picking up your sensors and interfac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eat the sensors and interfaces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are expensive pieces of equipment, that need to provide years of future service in the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t me know if you are having issues with any of the equipment, before making things wo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t the beginning and e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ug in and unplug all sensors and interfaces with the utmost of care.  Don’t leave cables and cords plugged in during storage.  Make sure sensors are clean and functioning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uring the investig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n’t set up sensors in a position where they might be damaged.  Damage could be caused by sensors/interfaces falling from precarious positions, sensors/ interfaces landing in water or sensors hit by moving objects.  Keep cords out of the way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6:03:01Z</dcterms:created>
  <dc:creator>default student</dc:creator>
  <dc:description/>
  <dc:language>en-US</dc:language>
  <cp:lastModifiedBy>default student</cp:lastModifiedBy>
  <dcterms:modified xsi:type="dcterms:W3CDTF">2010-08-06T16:13:53Z</dcterms:modified>
  <cp:revision>3</cp:revision>
  <dc:subject/>
  <dc:title>Sensor Etiquette</dc:title>
</cp:coreProperties>
</file>